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FE6DC-D329-494D-872C-C12A7254E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02498-5F40-4EF1-80FA-AFD53AAAB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BA410-BCE5-464C-B941-79682EEE2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36AA8-51AB-482E-85B3-4889124E1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5E284E-0791-4B3C-A247-62F97B0DF0C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80156D-CB6C-4F72-B4E5-883091EF8DA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D2F11-CD7B-4C7B-9373-930754122AB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375CDB-F2DC-439D-9B48-9B805BF06F9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D15310-4CD9-4984-9591-188B9E6771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402221-0F58-420E-86D9-8B1ECCCFC1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F0E99E-F3F0-41F6-8A18-C59EED6FC2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E64AF-97B8-4D32-8AB7-B7EE94380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9F909C-A802-44EC-88C9-75515E959A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E4839-0BDF-4D87-830B-2E4AD7C460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4C5191-3405-45AB-9680-6063988CA8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3B9CB1-944F-4B9B-9F68-0B9C3E39175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0E601F-3965-44E1-A122-15D7FC2544C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FE183-DEDD-4244-98BF-600A0A978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557A7-6BDA-4BC7-A53D-63AB0CBB1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282BE-518D-4508-A349-66ACD680C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144CB-A205-4C4E-94FB-5F65D61FB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F3499-F944-4AA8-9169-1CB09340F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5634D-59A5-4CA1-825E-9B4EA2896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6AA0-F3BD-42DF-8C9B-5FA80557A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52A5-67F4-4692-83CE-C482977CA9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A3B5-EE90-4250-9D2F-8E904C6B08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600"/>
            <a:ext cx="7772400" cy="32004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r>
              <a:rPr b="0" lang="en-US" sz="4000" spc="-1" strike="noStrike">
                <a:solidFill>
                  <a:srgbClr val="ffffff"/>
                </a:solidFill>
                <a:latin typeface="Tahoma"/>
              </a:rPr>
              <a:t>                                            </a:t>
            </a: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ffffff"/>
                </a:solidFill>
                <a:latin typeface="Tahoma"/>
              </a:rPr>
              <a:t>The Effects of Single Parenting on the Literacy Achievement of African-American students</a:t>
            </a:r>
            <a:br>
              <a:rPr sz="4000"/>
            </a:br>
            <a:br>
              <a:rPr sz="4000"/>
            </a:br>
            <a:endParaRPr b="0" lang="en-US" sz="4000" spc="-1" strike="noStrike">
              <a:solidFill>
                <a:srgbClr val="ffffff"/>
              </a:solidFill>
              <a:latin typeface="Tahoma"/>
            </a:endParaRPr>
          </a:p>
        </p:txBody>
      </p:sp>
      <p:sp>
        <p:nvSpPr>
          <p:cNvPr id="84" name="PlaceHolder 2"/>
          <p:cNvSpPr>
            <a:spLocks noGrp="1"/>
          </p:cNvSpPr>
          <p:nvPr>
            <p:ph type="subTitle"/>
          </p:nvPr>
        </p:nvSpPr>
        <p:spPr>
          <a:xfrm>
            <a:off x="1371240" y="3580920"/>
            <a:ext cx="7010280" cy="3048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tephanie Bryant</a:t>
            </a:r>
            <a:endParaRPr b="0" lang="en-US" sz="3200" spc="-1" strike="noStrike">
              <a:solidFill>
                <a:srgbClr val="ffffff"/>
              </a:solidFill>
              <a:latin typeface="Tahoma"/>
            </a:endParaRPr>
          </a:p>
        </p:txBody>
      </p:sp>
      <p:pic>
        <p:nvPicPr>
          <p:cNvPr id="85" name="" descr=""/>
          <p:cNvPicPr/>
          <p:nvPr/>
        </p:nvPicPr>
        <p:blipFill>
          <a:blip r:embed="rId2"/>
          <a:stretch/>
        </p:blipFill>
        <p:spPr>
          <a:xfrm>
            <a:off x="3962520" y="3581280"/>
            <a:ext cx="1904760" cy="1905120"/>
          </a:xfrm>
          <a:prstGeom prst="rect">
            <a:avLst/>
          </a:prstGeom>
          <a:ln w="0">
            <a:noFill/>
          </a:ln>
        </p:spPr>
      </p:pic>
      <p:pic>
        <p:nvPicPr>
          <p:cNvPr id="86" name="" descr=""/>
          <p:cNvPicPr/>
          <p:nvPr/>
        </p:nvPicPr>
        <p:blipFill>
          <a:blip r:embed="rId3"/>
          <a:stretch/>
        </p:blipFill>
        <p:spPr>
          <a:xfrm>
            <a:off x="2133720" y="3581280"/>
            <a:ext cx="1828800" cy="1905120"/>
          </a:xfrm>
          <a:prstGeom prst="rect">
            <a:avLst/>
          </a:prstGeom>
          <a:ln w="0">
            <a:noFill/>
          </a:ln>
        </p:spPr>
      </p:pic>
      <p:pic>
        <p:nvPicPr>
          <p:cNvPr id="87" name="" descr=""/>
          <p:cNvPicPr/>
          <p:nvPr/>
        </p:nvPicPr>
        <p:blipFill>
          <a:blip r:embed="rId4"/>
          <a:stretch/>
        </p:blipFill>
        <p:spPr>
          <a:xfrm>
            <a:off x="5867280" y="358128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tement of Hypothesi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a six week period, by implementing shared reading with twenty-five African-American third grade students from single parent households, students at P.S. X will increase their reading and writing achievement. </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ble of Content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1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atement of the Problem</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2</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view of the Literature </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3</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atement of the Hypothesis</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10</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roduction</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4000"/>
          </a:bodyPr>
          <a:p>
            <a:pPr marL="288000" indent="-2880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the every changing American family structure, there is a vast increase in the number of single parent households. This change can be accredited to either the increase in divorces rates among American families, parents deciding against marriage for various reasons or an increase in teenage pregnancies. Single parent households are especially prevalent in the African-American commun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tement of the Problem</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 from single parent households are faced with extra burdens that children from two-parent households do not have to face. In an effort to alleviate the stresses of these children, adjustments need to be made so that they are on a level-playing field academically with their counterpar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Related Literature</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le Parent Households Do Affect Student Achievement</a:t>
            </a:r>
            <a:endParaRPr b="0" lang="en-US" sz="32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merous studies have been conducted on parental involvement in the single parent household and these studies have found that parents who are involved in their student’s academic career help to increase the student’s academic achievement. </a:t>
            </a:r>
            <a:r>
              <a:rPr b="0" lang="en-US" sz="1600" spc="-1" strike="noStrike">
                <a:solidFill>
                  <a:srgbClr val="ffffff"/>
                </a:solidFill>
                <a:latin typeface="Tahoma"/>
              </a:rPr>
              <a:t>Zellman, G.L., &amp; Waterman, J.M. (1998); Hawes,C.A., &amp; Plourde, L.A. (2000); Senechal, M., &amp; LeFevre, J. (2002, March-April) ; Ricciuth, H.N. (2004, March/April) ; England, M.M., Luckner, A.E., Whaley, G.J.L. &amp; Egeland, B. (2004); Amato, P. (2005);  Driessen, G., Smit, F. &amp; Sleegers, P. (2005, August); Jeynes, W.H. (2005, Summer) ; Houtenville, A.J. &amp; Conway, K.S. (2008); Yongm, &amp; Yuanzhang (2008)</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Literature cont’d </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ingle Parent Households Do Not Affect Student Achievement</a:t>
            </a:r>
            <a:endParaRPr b="0" lang="en-US" sz="36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ontrast, there are some studies which indicate that single parent households do not play a role in student’s academic achievement, but other factors such as student’s motivational level play a role on student’s academic achievement. </a:t>
            </a:r>
            <a:endParaRPr b="0" lang="en-US" sz="2800" spc="-1" strike="noStrike">
              <a:solidFill>
                <a:srgbClr val="ffffff"/>
              </a:solidFill>
              <a:latin typeface="Tahoma"/>
            </a:endParaRPr>
          </a:p>
          <a:p>
            <a:pPr lvl="2" marL="1143000" indent="-22860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minia, T. (2005, July); Debell,M. (2008)</a:t>
            </a:r>
            <a:endParaRPr b="0" lang="en-US" sz="2000" spc="-1" strike="noStrike">
              <a:solidFill>
                <a:srgbClr val="ffffff"/>
              </a:solidFill>
              <a:latin typeface="Tahom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ent Educational Strategies</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some strategies being implemented in schools to help single parent households increase the academic achievement of their children. These includ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ning parents on how to conduct reading instruction at home so that it can increase the student’s reading achievement. </a:t>
            </a:r>
            <a:r>
              <a:rPr b="0" lang="en-US" sz="1800" spc="-1" strike="noStrike">
                <a:solidFill>
                  <a:srgbClr val="ffffff"/>
                </a:solidFill>
                <a:latin typeface="Tahoma"/>
              </a:rPr>
              <a:t>Faires, J., Nichols, W.D., &amp; Ricklman, R.J. (2000). </a:t>
            </a:r>
            <a:endParaRPr b="0" lang="en-US" sz="18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Education Strategies cont’d</a:t>
            </a:r>
            <a:endParaRPr b="0" lang="en-US" sz="40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ing teachers implement strategies such as maintaining a positive relationship with parents and having active parents spread the word to other parents to alleviate the educational barrier that African-American parents when dealing with their child’s teacher. </a:t>
            </a:r>
            <a:r>
              <a:rPr b="0" lang="en-US" sz="1800" spc="-1" strike="noStrike">
                <a:solidFill>
                  <a:srgbClr val="ffffff"/>
                </a:solidFill>
                <a:latin typeface="Tahoma"/>
              </a:rPr>
              <a:t>Trotman, M.F. (2001, Autumn)</a:t>
            </a:r>
            <a:r>
              <a:rPr b="0" lang="en-US" sz="1600" spc="-1" strike="noStrike">
                <a:solidFill>
                  <a:srgbClr val="ffffff"/>
                </a:solidFill>
                <a:latin typeface="Tahoma"/>
              </a:rPr>
              <a:t> </a:t>
            </a:r>
            <a:endParaRPr b="0" lang="en-US" sz="1600" spc="-1" strike="noStrike">
              <a:solidFill>
                <a:srgbClr val="ffffff"/>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lementing strategies that exhibit themes of empowerment, outreach, and indigenous resources. These can help to improve their child’s academic achievement overall, but especially in literacy.</a:t>
            </a:r>
            <a:r>
              <a:rPr b="0" lang="en-US" sz="2000" spc="-1" strike="noStrike">
                <a:solidFill>
                  <a:srgbClr val="ffffff"/>
                </a:solidFill>
                <a:latin typeface="Tahoma"/>
              </a:rPr>
              <a:t> </a:t>
            </a:r>
            <a:r>
              <a:rPr b="0" lang="en-US" sz="1800" spc="-1" strike="noStrike">
                <a:solidFill>
                  <a:srgbClr val="ffffff"/>
                </a:solidFill>
                <a:latin typeface="Tahoma"/>
              </a:rPr>
              <a:t>Abdul-Adil J.K., &amp; Farmer Jr., A.D. (2006) </a:t>
            </a:r>
            <a:endParaRPr b="0" lang="en-US" sz="1800" spc="-1" strike="noStrike">
              <a:solidFill>
                <a:srgbClr val="ffffff"/>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rental Involvement Theorist</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stein</a:t>
            </a:r>
            <a:endParaRPr b="0" lang="en-US" sz="28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x types of Parental Involvement</a:t>
            </a:r>
            <a:endParaRPr b="0" lang="en-US" sz="2400" spc="-1" strike="noStrike">
              <a:solidFill>
                <a:srgbClr val="ffffff"/>
              </a:solidFill>
              <a:latin typeface="Tahoma"/>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ith</a:t>
            </a:r>
            <a:endParaRPr b="0" lang="en-US" sz="28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ined effects of Parental Involvement on High School students</a:t>
            </a:r>
            <a:endParaRPr b="0" lang="en-US" sz="2400" spc="-1" strike="noStrike">
              <a:solidFill>
                <a:srgbClr val="ffffff"/>
              </a:solidFill>
              <a:latin typeface="Tahoma"/>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ristenson</a:t>
            </a:r>
            <a:endParaRPr b="0" lang="en-US" sz="28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ental Involvement affects boys and girls differentl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13:48:40Z</dcterms:created>
  <dc:creator>Stephanie Bryant</dc:creator>
  <dc:description/>
  <dc:language>en-US</dc:language>
  <cp:lastModifiedBy>Stephanie Bryant</cp:lastModifiedBy>
  <dcterms:modified xsi:type="dcterms:W3CDTF">2009-10-14T22:58:56Z</dcterms:modified>
  <cp:revision>16</cp:revision>
  <dc:subject/>
  <dc:title>The Effects of Single Parent Households on the Literacy Achievement of African-American students</dc:title>
</cp:coreProperties>
</file>